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84D-97B6-4097-803F-7F506AAE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672-CD6D-4E66-9927-1FA01064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C98-457F-448E-9F5E-E6C92A92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900-6883-4B3A-82CF-86A44A83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874-6091-43DA-970C-C335BF04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84D-6FD6-45AC-81AC-E92F4DE3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112-65D4-4478-9C97-9DE8B1DE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3E5-BD12-4538-BE84-A3D08D48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9A5-F4DA-4AE7-A1F6-C50128F3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A80-DD82-4FC2-AB09-7ED32E26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A38-1314-4ACF-8897-5D616AE0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ED0-D129-4EC2-A125-D9301FA9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B91B-61E4-4EBB-9C23-1F169F045EE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F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16668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ἠρξατο διδασκειν αὐτους ὁτι δει παθειν πολλα και διωχθηναι ὑπο των πρεσβυτερων και των ἀρχιερεων και των γραμματεων και ἀποκτανθην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υν ἡ κρισις ἐστιν του κοσμου τουτου, νυν ὁ ἀρχων του κοσμου τουτου ἐκβληθησεται ἐξ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οις∙ Το ποτηριον ὃ ἐγω πινω πιεσθε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rregular futur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ν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το βαπτισμα ὃ ἐγω βαπτιζομαι βαπτισθησ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ακαριοι οἱ ἐλεημονε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εημων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erciful; declines lik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λει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τι αὐτοι ἐλε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ακαριοι οἱ εἰρηνοποιοι [= εἰρηνη + ποιεω], ὁτι αὐτοι υἱοι θεου κλ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οκριθεις αὐτοις λεγει∙ Τίς ἐστιν ἡ μητηρ μου και οἱ ἀδελφοι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1280" y="1285920"/>
            <a:ext cx="914400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εκριθη αὐτῳ εἱς ἐκ του ὀχλου∙ Διδασκαλε, ἠνεγκα τον υἱον μου προς σε, ἐχοντα πνευμα πονη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ξαντο λυπεισθαι και λεγειν αὐτῳ εἱς κατα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ἱς∙ Μητι ἐ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y were filled with great awe [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it. ‘they feared a great fear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and said to one another, ‘Who then is thi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aving entered he said to them, ‘Why are you afraid and weep? The child has not died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was afraid and answered the chief priest, ‘They returned to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husband not having faith is made holy through [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s wife, and the wife not having faith is made holy through her husb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1280" y="1666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φανη ἀνηρ τις ἐκ της πολεως ἐχων δαιμονια και πολυν χρονον  οὐκ ἐνεδυσατιο ἱματιον και ἐν οἰκιᾳ οὐκ ἐμε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δων δε ὁ Ἰησους ὀχλον περι αὐτον ἐκελευσεν τους μαθητας ἀπελθειν εἰς το περ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∙ Μη κωλυετε αὐτον. οὐδεις γαρ ἐστιν ὁς ποιησει δυναμιν ἐπι τῳ ὀνοματι μου και λαλησει κακως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εκριθη αὐτῳ ὁ ἀσθενων∙ Κυριε, ὑπηρετην οὐκ ἐχω βαλειν με εἰς το ὑδωρ∙ ὁτε εἰς αὐτο ἐρχομαι ἐγω, ἀλλος προ ἐμου καταβαι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ουλομεθα οὐν γνωναι τίνα ταυτα ἐστ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 γαρ ὁ Ἡρῳδης ἀποστειλας ἐκρατησεν τον Ἰωαννην και ἐδησεν αὐτον ἐν φυαλκ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ην γυναικα του ἀδελφου αὐτου, ὁτι αὐτην ἐγαμη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280" y="1285920"/>
            <a:ext cx="87156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φαγον τον καρπον παντες, και ἠρθη το περισσε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γαρ ἀγαπη του θεου ἐκχειται ἐν ταις καρδιαις ἡμων δια πνευματος ἁγιου του λαμβανομενου ὑφ’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time of harvest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it. ‘time of the fruits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came, he sent his slaves to receive the produc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fruit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which was 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ip said, ‘We were hindered by the devil but after a long time we finished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he sent one of his disciples, saying to him, ‘Go into the city, and a man carrying a cup of water will serve you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 make known to you, brothers and sisters, that the good news which was proclaimed by me is not according to a human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55760" y="1557360"/>
            <a:ext cx="8215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hew 11.2-5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ὲ Ἰωάννης ἀκούσας ἐν τῷ δεσμωτηρί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ὰ ἔργα τοῦ Χριστοῦ πέμψας διὰ τῶν μαθητῶν αὐτοῦ 3 εἶπεν αὐτῷ, Σὺ εἶ ὁ ἐρχόμενος ἢ ἕτερον προσδοκῶμ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e should wait f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4 καὶ ἀποκριθεὶς ὁ Ἰησοῦς εἶπεν αὐτοῖς∙ Πορευθέντες ἀπαγγείλατε Ἰωάννῃ ἃ ἀκούετε καὶ βλέπετε∙ 5 τυφλοὶ ἀναβλέπουσιν καὶ χωροὶ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πατοῦσιν, λεπρ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eper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αρίζοντ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αριζω =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cleanse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κωφ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ea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ύουσιν, καὶ νεκροὶ ἐγείρονται καὶ πτωχ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ὐαγγελίζ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21:15:13Z</dcterms:created>
  <dc:creator>Sarah</dc:creator>
  <dc:description/>
  <dc:language>en-US</dc:language>
  <cp:lastModifiedBy>Sarah</cp:lastModifiedBy>
  <dcterms:modified xsi:type="dcterms:W3CDTF">2008-10-01T12:46:11Z</dcterms:modified>
  <cp:revision>21</cp:revision>
  <dc:subject/>
  <dc:title>Slide 1</dc:title>
</cp:coreProperties>
</file>